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65D-4B65-44AB-BE5B-F3BCED69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9AF-ADC3-4FBE-9E8E-2F308D22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272-6820-4F9F-AAF4-6F411B68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936-28A2-4998-9386-64079711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013-853A-4ED4-ACC2-4298355F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5E2-232C-4679-B125-2091E724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8C4-91AC-4D71-B971-BBC4F01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F73-57D0-4390-BC40-EE21B3CE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E20-7E6E-464F-8989-F1659DAD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3C3-BEF2-4E61-BEA5-36747D85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3F1-5E52-4365-9E08-BFD2215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CD7-3A6E-4558-B3B2-BD339D7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3492-18A0-4D52-8853-78C6EF12C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"/>
          <p:cNvSpPr/>
          <p:nvPr/>
        </p:nvSpPr>
        <p:spPr>
          <a:xfrm>
            <a:off x="762120" y="1143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2"/>
          <p:cNvSpPr/>
          <p:nvPr/>
        </p:nvSpPr>
        <p:spPr>
          <a:xfrm>
            <a:off x="2895480" y="304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"/>
          <p:cNvSpPr/>
          <p:nvPr/>
        </p:nvSpPr>
        <p:spPr>
          <a:xfrm>
            <a:off x="4191120" y="12952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324480" y="380880"/>
            <a:ext cx="25909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6629400" y="129528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6"/>
          <p:cNvSpPr/>
          <p:nvPr/>
        </p:nvSpPr>
        <p:spPr>
          <a:xfrm>
            <a:off x="6934320" y="20574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8001000" y="12952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s of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543800" y="266688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467480" y="35053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334120" y="4267080"/>
            <a:ext cx="19047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6400800" y="5334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4343400" y="5867280"/>
            <a:ext cx="19051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1143000" y="48006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28600" y="57150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213372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600" y="2590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981080" y="2209680"/>
            <a:ext cx="3733920" cy="25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0"/>
          <p:cNvCxnSpPr>
            <a:stCxn id="41" idx="0"/>
            <a:endCxn id="42" idx="1"/>
          </p:cNvCxnSpPr>
          <p:nvPr/>
        </p:nvCxnSpPr>
        <p:spPr>
          <a:xfrm flipV="1">
            <a:off x="1714320" y="609480"/>
            <a:ext cx="11815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2"/>
          <p:cNvCxnSpPr>
            <a:stCxn id="42" idx="3"/>
            <a:endCxn id="44" idx="1"/>
          </p:cNvCxnSpPr>
          <p:nvPr/>
        </p:nvCxnSpPr>
        <p:spPr>
          <a:xfrm>
            <a:off x="4800600" y="609480"/>
            <a:ext cx="152424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>
            <a:stCxn id="42" idx="2"/>
            <a:endCxn id="43" idx="0"/>
          </p:cNvCxnSpPr>
          <p:nvPr/>
        </p:nvCxnSpPr>
        <p:spPr>
          <a:xfrm>
            <a:off x="3848040" y="914400"/>
            <a:ext cx="1295640" cy="38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5485320" y="990360"/>
            <a:ext cx="20962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Straight Arrow Connector 28"/>
          <p:cNvCxnSpPr>
            <a:stCxn id="43" idx="3"/>
            <a:endCxn id="45" idx="1"/>
          </p:cNvCxnSpPr>
          <p:nvPr/>
        </p:nvCxnSpPr>
        <p:spPr>
          <a:xfrm flipV="1">
            <a:off x="6095880" y="1523880"/>
            <a:ext cx="53388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30"/>
          <p:cNvCxnSpPr>
            <a:stCxn id="45" idx="3"/>
            <a:endCxn id="47" idx="1"/>
          </p:cNvCxnSpPr>
          <p:nvPr/>
        </p:nvCxnSpPr>
        <p:spPr>
          <a:xfrm>
            <a:off x="7620120" y="1523880"/>
            <a:ext cx="38124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32"/>
          <p:cNvCxnSpPr>
            <a:stCxn id="43" idx="3"/>
            <a:endCxn id="46" idx="0"/>
          </p:cNvCxnSpPr>
          <p:nvPr/>
        </p:nvCxnSpPr>
        <p:spPr>
          <a:xfrm>
            <a:off x="6095880" y="1600200"/>
            <a:ext cx="13338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34"/>
          <p:cNvCxnSpPr>
            <a:stCxn id="46" idx="2"/>
            <a:endCxn id="48" idx="1"/>
          </p:cNvCxnSpPr>
          <p:nvPr/>
        </p:nvCxnSpPr>
        <p:spPr>
          <a:xfrm>
            <a:off x="7429320" y="2514600"/>
            <a:ext cx="11484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36"/>
          <p:cNvCxnSpPr>
            <a:stCxn id="43" idx="3"/>
            <a:endCxn id="49" idx="1"/>
          </p:cNvCxnSpPr>
          <p:nvPr/>
        </p:nvCxnSpPr>
        <p:spPr>
          <a:xfrm>
            <a:off x="6095880" y="1600200"/>
            <a:ext cx="1371960" cy="2134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38"/>
          <p:cNvCxnSpPr>
            <a:stCxn id="43" idx="2"/>
            <a:endCxn id="50" idx="0"/>
          </p:cNvCxnSpPr>
          <p:nvPr/>
        </p:nvCxnSpPr>
        <p:spPr>
          <a:xfrm>
            <a:off x="5143320" y="1905120"/>
            <a:ext cx="1143360" cy="236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40"/>
          <p:cNvCxnSpPr>
            <a:stCxn id="50" idx="2"/>
            <a:endCxn id="51" idx="0"/>
          </p:cNvCxnSpPr>
          <p:nvPr/>
        </p:nvCxnSpPr>
        <p:spPr>
          <a:xfrm>
            <a:off x="6286320" y="4876920"/>
            <a:ext cx="1067400" cy="457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42"/>
          <p:cNvCxnSpPr>
            <a:stCxn id="51" idx="1"/>
            <a:endCxn id="52" idx="0"/>
          </p:cNvCxnSpPr>
          <p:nvPr/>
        </p:nvCxnSpPr>
        <p:spPr>
          <a:xfrm flipH="1">
            <a:off x="5295960" y="5638680"/>
            <a:ext cx="110520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44"/>
          <p:cNvCxnSpPr>
            <a:stCxn id="52" idx="1"/>
            <a:endCxn id="53" idx="3"/>
          </p:cNvCxnSpPr>
          <p:nvPr/>
        </p:nvCxnSpPr>
        <p:spPr>
          <a:xfrm flipH="1" flipV="1">
            <a:off x="3048120" y="5105160"/>
            <a:ext cx="129564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46"/>
          <p:cNvCxnSpPr>
            <a:stCxn id="54" idx="3"/>
            <a:endCxn id="55" idx="0"/>
          </p:cNvCxnSpPr>
          <p:nvPr/>
        </p:nvCxnSpPr>
        <p:spPr>
          <a:xfrm>
            <a:off x="1981080" y="5943600"/>
            <a:ext cx="1029240" cy="15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48"/>
          <p:cNvCxnSpPr>
            <a:stCxn id="53" idx="2"/>
            <a:endCxn id="54" idx="0"/>
          </p:cNvCxnSpPr>
          <p:nvPr/>
        </p:nvCxnSpPr>
        <p:spPr>
          <a:xfrm flipH="1">
            <a:off x="1104840" y="5410080"/>
            <a:ext cx="99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50"/>
          <p:cNvCxnSpPr>
            <a:stCxn id="53" idx="0"/>
            <a:endCxn id="56" idx="2"/>
          </p:cNvCxnSpPr>
          <p:nvPr/>
        </p:nvCxnSpPr>
        <p:spPr>
          <a:xfrm flipH="1" flipV="1">
            <a:off x="1181160" y="3200400"/>
            <a:ext cx="914760" cy="160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52"/>
          <p:cNvCxnSpPr>
            <a:stCxn id="56" idx="0"/>
            <a:endCxn id="41" idx="2"/>
          </p:cNvCxnSpPr>
          <p:nvPr/>
        </p:nvCxnSpPr>
        <p:spPr>
          <a:xfrm flipV="1">
            <a:off x="1181160" y="1752480"/>
            <a:ext cx="533520" cy="838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ounded Rectangle 41"/>
          <p:cNvSpPr/>
          <p:nvPr/>
        </p:nvSpPr>
        <p:spPr>
          <a:xfrm>
            <a:off x="7467480" y="42670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49"/>
          <p:cNvCxnSpPr>
            <a:stCxn id="75" idx="1"/>
            <a:endCxn id="50" idx="3"/>
          </p:cNvCxnSpPr>
          <p:nvPr/>
        </p:nvCxnSpPr>
        <p:spPr>
          <a:xfrm flipH="1">
            <a:off x="7238880" y="4533840"/>
            <a:ext cx="228960" cy="38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Frame 37"/>
          <p:cNvSpPr/>
          <p:nvPr/>
        </p:nvSpPr>
        <p:spPr>
          <a:xfrm>
            <a:off x="990720" y="464832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39"/>
          <p:cNvSpPr/>
          <p:nvPr/>
        </p:nvSpPr>
        <p:spPr>
          <a:xfrm>
            <a:off x="0" y="5486400"/>
            <a:ext cx="2286000" cy="914400"/>
          </a:xfrm>
          <a:custGeom>
            <a:avLst/>
            <a:gdLst>
              <a:gd name="textAreaLeft" fmla="*/ 114120 w 2286000"/>
              <a:gd name="textAreaRight" fmla="*/ 2171880 w 22860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286000" h="914400">
                <a:moveTo>
                  <a:pt x="0" y="0"/>
                </a:moveTo>
                <a:lnTo>
                  <a:pt x="2286000" y="0"/>
                </a:lnTo>
                <a:lnTo>
                  <a:pt x="2286000" y="914400"/>
                </a:lnTo>
                <a:lnTo>
                  <a:pt x="0" y="914400"/>
                </a:lnTo>
                <a:close/>
                <a:moveTo>
                  <a:pt x="114300" y="114300"/>
                </a:moveTo>
                <a:lnTo>
                  <a:pt x="114300" y="800100"/>
                </a:lnTo>
                <a:lnTo>
                  <a:pt x="2171700" y="800100"/>
                </a:lnTo>
                <a:lnTo>
                  <a:pt x="2171700" y="1143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2819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762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971800" y="762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ve th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971800" y="12193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ffect of the (IV) on the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0" y="1676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895480" y="18288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eft colu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971800" y="35812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iddle colum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units of measurement if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895480" y="2666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971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ls go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819520" y="4110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43200" y="4648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rials together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by the #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"/>
          <p:cNvSpPr/>
          <p:nvPr/>
        </p:nvSpPr>
        <p:spPr>
          <a:xfrm>
            <a:off x="2819520" y="10666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mmary Statement:  Why is it important to have a good data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0" y="1600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895480" y="1676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st column 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743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highest data point and the lowest dat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to Make a Good Data Table,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60948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____________________ on 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828800"/>
          <a:ext cx="9144000" cy="4221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2440"/>
                <a:gridCol w="1524240"/>
                <a:gridCol w="1523880"/>
              </a:tblGrid>
              <a:tr h="712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: 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:  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ience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ke a data table for the data below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ch person had 3 trials.  Include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= Height of person throwing free th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:  6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0 feet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 = # of free throws made in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Measurement: # of baskets ma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(each person tried 3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6 ft made 5, then 7 and then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½ ft made 6, then 4, and the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 who was 5 ft made 2, then 4, and th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MSj00746720000[1].wav" descr=""/>
          <p:cNvPicPr/>
          <p:nvPr/>
        </p:nvPicPr>
        <p:blipFill>
          <a:blip r:embed="rId1"/>
          <a:stretch/>
        </p:blipFill>
        <p:spPr>
          <a:xfrm>
            <a:off x="80773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krose\Local Settings\Temporary Internet Files\Content.IE5\9SLX7TH3\MMAG00422_0000[1].gif"/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1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1600200"/>
          <a:ext cx="9144000" cy="4505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5680"/>
                <a:gridCol w="1522440"/>
                <a:gridCol w="1523880"/>
              </a:tblGrid>
              <a:tr h="1462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 of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ree Throws Made in 2 minu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# of baskets ma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30"/>
          <p:cNvSpPr/>
          <p:nvPr/>
        </p:nvSpPr>
        <p:spPr>
          <a:xfrm>
            <a:off x="0" y="838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f Height of Person on Number of Free Throws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8:01:08Z</dcterms:created>
  <dc:creator>itsuser</dc:creator>
  <dc:description/>
  <dc:language>en-US</dc:language>
  <cp:lastModifiedBy>Jean Kavanagh</cp:lastModifiedBy>
  <dcterms:modified xsi:type="dcterms:W3CDTF">2009-09-25T22:31:22Z</dcterms:modified>
  <cp:revision>22</cp:revision>
  <dc:subject/>
  <dc:title>Slide 1</dc:title>
</cp:coreProperties>
</file>